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DE8-9041-40AA-9A73-7EC68DD4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D90-E4A4-4B4B-9C7F-DF845AB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0C7-1AC4-47E4-A793-26F9DEA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0B3-6CBF-4FC4-A697-C7F95643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D85D-2BEB-4BCC-A21F-0E2C2543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3BD0-F3DE-45EC-A55E-B6F8817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1D5B-1ED6-444E-B417-66A480EE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122-C37F-4B81-B8BE-4EA6A9C1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8F17-3D56-4BB0-A4B5-53C90C4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23E-98A9-48F9-A17C-2C9170D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AFA3-2A58-48AC-A918-E153077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1AE-0093-426A-939B-A149F037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DF0-9199-40A7-9C9B-AE7EE4F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F08-54F1-4389-8D2F-16D5F18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F45-6912-42CA-B326-93C431B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0DF-54F8-4072-BC6D-17BB0853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55B-281A-43C4-98FE-AF5E0FA9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26B-34B7-4C6A-A2F9-1AB1F029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2CE-819B-4610-899F-C0DE8C6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FE3-B1F6-435F-92BD-B4AAD21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DFB-2143-4D49-8BCF-DC82A73C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AEE-1A62-48D3-B52C-D3869D7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241-04F0-4684-8B4A-66B0437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90A-435A-4D91-9D06-31C8E04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C61D-9895-4C44-8DE2-BDD45C3701A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F65-1437-4A30-8B3E-641218528C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Exciting Day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eshm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writing better senten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Cask of Amontilla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 was so tired i wanted to lay down my dad he suggested that i ate in an hou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new employee was requested to do there things first complete the Form second submit a reference and third he was asked to mail a resume to the personnel off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alogie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saic : exciting :: _____________ : creativ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____________: novelist :: Emily Dickinson : Po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tter sent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he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 Cask of Amontillad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ge 5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rtunato never asks why he is being killed, why do you think this i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does Montresor trick Fortunato into coming to the vault with hi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s this the perfect crime? Does Montresor seem like he has closure now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o seems the most likeabl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Fortun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other party go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story follow Poe’s example. (At least one p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you didn’t deserve what happened to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</cp:lastModifiedBy>
  <dcterms:modified xsi:type="dcterms:W3CDTF">2009-08-24T04:10:57Z</dcterms:modified>
  <cp:revision>2</cp:revision>
  <dc:subject/>
  <dc:title>English Exciting Day 4</dc:title>
</cp:coreProperties>
</file>